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8F8-6334-40AB-BB48-4857F539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23EA-E365-4FD2-905C-EA2FE3D5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679-9FB5-44D9-96F7-52D04F08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D662-C1C2-4FC9-9FF0-21B21EA9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C57-5FD8-4A1A-B952-8F485D43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7FC8-7774-4B39-A0AE-9EC8317F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D40-774F-408C-8953-511E8A63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AEC-4341-4222-9A42-B56D44ED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5A7-109D-47E8-ACF6-6FF04F65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14C-FB03-4D84-8CAD-404B0B15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859-41B0-4511-A553-16E1FE2D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78B-98B6-4805-823C-C3AB4E32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BF3A-6657-41EE-BE19-0C23123153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earn.co.uk/" TargetMode="External"/><Relationship Id="rId2" Type="http://schemas.openxmlformats.org/officeDocument/2006/relationships/hyperlink" Target="http://www.learn.co.uk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WEIMAR REPUBLIC UNDER GUSTAV STRESEMAN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629400" y="304920"/>
            <a:ext cx="25146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Mr Crowe</a:t>
            </a:r>
            <a:br>
              <a:rPr sz="2000"/>
            </a:b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3443400" y="1828800"/>
            <a:ext cx="2256840" cy="3568680"/>
            <a:chOff x="3443400" y="1828800"/>
            <a:chExt cx="2256840" cy="3568680"/>
          </a:xfrm>
        </p:grpSpPr>
        <p:sp>
          <p:nvSpPr>
            <p:cNvPr id="45" name="Rectangle 3"/>
            <p:cNvSpPr/>
            <p:nvPr/>
          </p:nvSpPr>
          <p:spPr>
            <a:xfrm>
              <a:off x="3535200" y="1828800"/>
              <a:ext cx="2165040" cy="356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18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3443400" y="2056320"/>
              <a:ext cx="18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Picture 4" descr="http://www.spartacus.schoolnet.co.uk/GERstreseman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0" y="609480"/>
            <a:ext cx="337032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600200" y="57913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ustav Stresemann 1878-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685800" y="2362320"/>
            <a:ext cx="7772400" cy="3050280"/>
          </a:xfrm>
          <a:prstGeom prst="rect">
            <a:avLst/>
          </a:prstGeom>
          <a:noFill/>
          <a:ln w="2556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semann was Chancellor in 1923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s main role was as Foreign Minister from 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was a right-winger and more able than E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built up Germany’s prosperity again although all of Europe was recove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 signed Germany up to the Dawes Plan in 1924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152388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THE DAWES PLAN - 1924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38080" y="1523880"/>
            <a:ext cx="7772400" cy="3606480"/>
          </a:xfrm>
          <a:prstGeom prst="rect">
            <a:avLst/>
          </a:prstGeom>
          <a:noFill/>
          <a:ln w="9360">
            <a:solidFill>
              <a:srgbClr val="0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’s reparations paid over a longer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erica lent money to German industry and also to the Government to pay rep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 currency reorgan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19320" y="3733920"/>
            <a:ext cx="8380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590920" y="373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3505320" y="3733920"/>
            <a:ext cx="14475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 flipV="1">
            <a:off x="6270480" y="3744000"/>
            <a:ext cx="19591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B &amp;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2057400" y="3962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4952880" y="3962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18"/>
          <p:cNvCxnSpPr>
            <a:stCxn id="56" idx="3"/>
            <a:endCxn id="53" idx="2"/>
          </p:cNvCxnSpPr>
          <p:nvPr/>
        </p:nvCxnSpPr>
        <p:spPr>
          <a:xfrm flipH="1">
            <a:off x="1637640" y="3939840"/>
            <a:ext cx="6590520" cy="261000"/>
          </a:xfrm>
          <a:prstGeom prst="bentConnector4">
            <a:avLst>
              <a:gd name="adj1" fmla="val -3490"/>
              <a:gd name="adj2" fmla="val 18770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Text Box 19"/>
          <p:cNvSpPr/>
          <p:nvPr/>
        </p:nvSpPr>
        <p:spPr>
          <a:xfrm>
            <a:off x="220968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029200" y="35053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ep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96252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War deb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eign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609480" y="1905120"/>
            <a:ext cx="7848720" cy="3050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esemann showed real skill in foreign policy – 19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rno Treaties – 19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26 – Germany joined the League of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ung plan - 19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a number of years in the wilderness Germany was accepted back into the international commun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ocarno Tre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75248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914400" y="1676520"/>
            <a:ext cx="76960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, France, Italy, Belgium, Czechoslovakia, Poland met at Locarno in Switzer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gned a number of treaties to settle disputes between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nce, Belgium and Germany agreed to accept borders as drawn up by Treaty of Versa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hineland stayed demilita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ance would protect Poland and Czechoslovakia if attacked by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rmany would not use force to settle disputes with neighbou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eague of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85800" y="2133720"/>
            <a:ext cx="79246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eague of Nations was the fore runner of the Unit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aims were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vent aggression by any 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courage co-operation between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 towards international disarma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rove the living and working conditions of all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The core wa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ollective security – members of the League could prevent war by acting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features of the Stresemann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838080" y="1828800"/>
            <a:ext cx="7772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lden age of German ci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ight life, caba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moval of ce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Unemployment and poverty still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Growing prosperity based on USA loans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hat would happen if USA wanted the money back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4952880" y="2133720"/>
            <a:ext cx="381240" cy="106668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562720" y="2590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7772400" y="3505320"/>
            <a:ext cx="380880" cy="1295280"/>
          </a:xfrm>
          <a:custGeom>
            <a:avLst/>
            <a:gdLst>
              <a:gd name="textAreaLeft" fmla="*/ 0 w 380880"/>
              <a:gd name="textAreaRight" fmla="*/ 13752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305920" y="2895480"/>
            <a:ext cx="45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ything el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resemann wasn’t popular with either the extreme nationalists like Hitler and the Nazis, or with the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tler disliked the League because it supported the Treaty of Versai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both the Nazis and the Communists made little progress in these years because people were much better off and their EXTREME ideas did not appeal to 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13:56:12Z</dcterms:created>
  <dc:creator>DCrowe</dc:creator>
  <dc:description/>
  <dc:language>en-US</dc:language>
  <cp:lastModifiedBy>.</cp:lastModifiedBy>
  <dcterms:modified xsi:type="dcterms:W3CDTF">2010-03-12T08:05:22Z</dcterms:modified>
  <cp:revision>8</cp:revision>
  <dc:subject/>
  <dc:title>THE WEIMAR REPUBLIC UNDER GUSTAV STRESEMANN</dc:title>
</cp:coreProperties>
</file>